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60A-488E-4C9B-BEE9-EB92093C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F1A-133F-4B9A-B0A9-CA0055A8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F2C-D2FC-42B2-A040-19D1DB28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B1F-ADF1-44B5-9152-254DBCC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285E-B9B7-4B0B-A65E-9EB2C71F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65FB-4FC3-4FA9-844A-77887DBB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395E-53C5-4D4B-93BB-A5018BA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C4C-889B-4896-9DC3-325B4EC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314C-E368-48BE-9A33-152013F8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4885-5A4C-4612-B000-54DE6D3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C71-4EDE-4DFF-A199-867CAAAD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FC7-7402-41C2-A289-E94D4CB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93D4-C70F-48FB-BBFB-95F2A8C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4CF-AE00-4B00-A46C-B40B0A3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16B-195E-4431-9B18-96A7EE53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55E-8ACB-49C9-B4D4-B2BDA1DC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F8DB-0E72-4A66-B112-AF64C82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830-1E7D-4B0E-8D3A-E8B6F28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980-C154-4EC2-84F9-6C8ADAE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CD8-E9D2-4AF9-8DAF-1434F14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4EB-F212-48D7-BCFE-2007169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DF5-E2DD-4388-8A2B-69D925D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5FC-D606-4D84-BBCD-0D94501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C98-D267-4669-8513-85D02E7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61498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06E6-0967-4B21-9ACC-50D133782F1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EC90-8DAE-4FDD-B30F-F2458D88667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ta.org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5b5249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78240" y="457200"/>
            <a:ext cx="4865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                  </a:t>
            </a: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Effectiv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    </a:t>
            </a:r>
            <a:r>
              <a:rPr b="1" lang="en-US" sz="2400" spc="-1" strike="noStrike">
                <a:solidFill>
                  <a:srgbClr val="2a3d7a"/>
                </a:solidFill>
                <a:latin typeface="Arial Unicode MS"/>
              </a:rPr>
              <a:t>Parent/Teacher Conferen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6F8-A7BB-44D5-88EE-BEF18093A2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teacher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 </a:t>
            </a: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1560" y="23893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chool resources that are available to assist in the child’s academic progres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I measure the child’s progres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we work together to maintain success and work on problem are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 keep the parent in touch with what is going on in the classroom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chool accountability plans that may be of interest to the par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34E-3E4E-432C-B3F4-BBCC2C244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arent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6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is the purpose of this meet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do I want the outcome of this meeting to b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my child’s strength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my child’s areas of nee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ngs I feel the teacher should know about my child: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personality trait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how he/she gets along with friends and famil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ffective discipline strategies I use at hom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tracurricular activiti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health of my chil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rewards my child prefer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020-9E65-4137-981E-E41D8E62C9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1560" y="996480"/>
            <a:ext cx="8377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arent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1560" y="228600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y perception of how my child is doing academical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be involved in assisting in my child’s academic progres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does the teacher measure my child’s academic progres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we work together to maintain success and work on problem are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How can I keep open communication with the teac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AD6-D902-4175-BA82-FAC27CA3D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560" y="762120"/>
            <a:ext cx="837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op ten tips for effective parent/teacher conferences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on time and end on time – parent and teac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ake notes during the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gin conference with genuine positive commen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void distrac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ave an open mind and a positive int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077320" y="533520"/>
            <a:ext cx="68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126" name=""/>
          <p:cNvSpPr txBox="1"/>
          <p:nvPr/>
        </p:nvSpPr>
        <p:spPr>
          <a:xfrm rot="18516000">
            <a:off x="723240" y="890640"/>
            <a:ext cx="68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505-70AE-4927-8E68-19B78924E0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560" y="1066320"/>
            <a:ext cx="8377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op ten tips for effective parent/teacher conferences: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1560" y="228600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vide contact information and preferable contact tim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f something is not clear, ask for clarific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open about problems that may be affecting the child’s learn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hare support and resource inform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Develop an action plan for the chil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077320" y="533520"/>
            <a:ext cx="68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130" name=""/>
          <p:cNvSpPr txBox="1"/>
          <p:nvPr/>
        </p:nvSpPr>
        <p:spPr>
          <a:xfrm rot="18516000">
            <a:off x="723240" y="890640"/>
            <a:ext cx="68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!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EEA-626A-47B5-B0C6-EB7701E51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560" y="762120"/>
            <a:ext cx="8377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n order for successful conferences to be achieved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1560" y="2209320"/>
            <a:ext cx="8377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spcAft>
                <a:spcPts val="2999"/>
              </a:spcAft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ildren and teens need to be involved in the conference in order to get their buy-in to the action plans made at the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Aft>
                <a:spcPts val="2999"/>
              </a:spcAft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en parents and teachers agree on the purpose for the conference, it is much more product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65C-0D39-4B09-B77A-57FEFAEEA2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e best way to do something well is to practice, so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oose 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of the following scenarios for your group to role play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says the teacher is picking on him/her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is having problems with school work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feels that the work at school is too easy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The child has no friend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should the observer watch fo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b5249"/>
                </a:solidFill>
                <a:latin typeface="Times New Roman"/>
              </a:rPr>
              <a:t>Cooperative efforts made by the teacher and the parent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9493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B95-E8F2-423D-92F7-BF7329FD20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1560" y="2343240"/>
            <a:ext cx="8377200" cy="21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other strategies not mentioned today would be useful for a parent/teacher conference?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71760" y="304920"/>
            <a:ext cx="2400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HumstSlab712 Blk BT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HumstSlab712 Blk BT"/>
              <a:ea typeface="HumstSlab712 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04B-1B2B-405E-A238-41DDB7979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TA Web Link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PTA : PTA Ho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6400" y="5261040"/>
            <a:ext cx="24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ww.pta.or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9B6-84CB-4FA4-B14E-E42E2AB43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929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llowing Up… 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It is important to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560" y="213372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Follow up on the tasks assigned to you on the action pl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hare the plan with your child or te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tay in touch and evaluate how the plan is working.  Make changes if necess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rite a thank-you note to express your appreci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4280" y="262080"/>
            <a:ext cx="1145160" cy="1793880"/>
            <a:chOff x="1214280" y="262080"/>
            <a:chExt cx="1145160" cy="1793880"/>
          </a:xfrm>
        </p:grpSpPr>
        <p:sp>
          <p:nvSpPr>
            <p:cNvPr id="144" name=""/>
            <p:cNvSpPr/>
            <p:nvPr/>
          </p:nvSpPr>
          <p:spPr>
            <a:xfrm rot="1137600">
              <a:off x="1460520" y="327240"/>
              <a:ext cx="663120" cy="1560600"/>
            </a:xfrm>
            <a:custGeom>
              <a:avLst/>
              <a:gdLst/>
              <a:ahLst/>
              <a:rect l="l" t="t" r="r" b="b"/>
              <a:pathLst>
                <a:path w="1986" h="3980">
                  <a:moveTo>
                    <a:pt x="1588" y="3941"/>
                  </a:moveTo>
                  <a:lnTo>
                    <a:pt x="1588" y="3743"/>
                  </a:lnTo>
                  <a:lnTo>
                    <a:pt x="1619" y="3604"/>
                  </a:lnTo>
                  <a:lnTo>
                    <a:pt x="1666" y="3460"/>
                  </a:lnTo>
                  <a:lnTo>
                    <a:pt x="1788" y="3226"/>
                  </a:lnTo>
                  <a:lnTo>
                    <a:pt x="1877" y="2998"/>
                  </a:lnTo>
                  <a:lnTo>
                    <a:pt x="1936" y="2823"/>
                  </a:lnTo>
                  <a:lnTo>
                    <a:pt x="1976" y="2578"/>
                  </a:lnTo>
                  <a:lnTo>
                    <a:pt x="1986" y="2351"/>
                  </a:lnTo>
                  <a:lnTo>
                    <a:pt x="1986" y="2059"/>
                  </a:lnTo>
                  <a:lnTo>
                    <a:pt x="1955" y="1891"/>
                  </a:lnTo>
                  <a:lnTo>
                    <a:pt x="1908" y="1764"/>
                  </a:lnTo>
                  <a:lnTo>
                    <a:pt x="1847" y="1698"/>
                  </a:lnTo>
                  <a:lnTo>
                    <a:pt x="1759" y="1667"/>
                  </a:lnTo>
                  <a:lnTo>
                    <a:pt x="1687" y="1677"/>
                  </a:lnTo>
                  <a:lnTo>
                    <a:pt x="1619" y="1705"/>
                  </a:lnTo>
                  <a:lnTo>
                    <a:pt x="1588" y="1587"/>
                  </a:lnTo>
                  <a:lnTo>
                    <a:pt x="1518" y="1498"/>
                  </a:lnTo>
                  <a:lnTo>
                    <a:pt x="1410" y="1477"/>
                  </a:lnTo>
                  <a:lnTo>
                    <a:pt x="1300" y="1488"/>
                  </a:lnTo>
                  <a:lnTo>
                    <a:pt x="1252" y="1498"/>
                  </a:lnTo>
                  <a:lnTo>
                    <a:pt x="1231" y="1422"/>
                  </a:lnTo>
                  <a:lnTo>
                    <a:pt x="1151" y="1352"/>
                  </a:lnTo>
                  <a:lnTo>
                    <a:pt x="1053" y="1323"/>
                  </a:lnTo>
                  <a:lnTo>
                    <a:pt x="963" y="1361"/>
                  </a:lnTo>
                  <a:lnTo>
                    <a:pt x="912" y="1422"/>
                  </a:lnTo>
                  <a:lnTo>
                    <a:pt x="764" y="1469"/>
                  </a:lnTo>
                  <a:lnTo>
                    <a:pt x="724" y="998"/>
                  </a:lnTo>
                  <a:lnTo>
                    <a:pt x="714" y="472"/>
                  </a:lnTo>
                  <a:lnTo>
                    <a:pt x="695" y="166"/>
                  </a:lnTo>
                  <a:lnTo>
                    <a:pt x="646" y="51"/>
                  </a:lnTo>
                  <a:lnTo>
                    <a:pt x="587" y="0"/>
                  </a:lnTo>
                  <a:lnTo>
                    <a:pt x="485" y="31"/>
                  </a:lnTo>
                  <a:lnTo>
                    <a:pt x="447" y="88"/>
                  </a:lnTo>
                  <a:lnTo>
                    <a:pt x="416" y="205"/>
                  </a:lnTo>
                  <a:lnTo>
                    <a:pt x="386" y="920"/>
                  </a:lnTo>
                  <a:lnTo>
                    <a:pt x="367" y="1314"/>
                  </a:lnTo>
                  <a:lnTo>
                    <a:pt x="348" y="1519"/>
                  </a:lnTo>
                  <a:lnTo>
                    <a:pt x="268" y="1538"/>
                  </a:lnTo>
                  <a:lnTo>
                    <a:pt x="209" y="1587"/>
                  </a:lnTo>
                  <a:lnTo>
                    <a:pt x="169" y="1715"/>
                  </a:lnTo>
                  <a:lnTo>
                    <a:pt x="106" y="1903"/>
                  </a:lnTo>
                  <a:lnTo>
                    <a:pt x="29" y="2106"/>
                  </a:lnTo>
                  <a:lnTo>
                    <a:pt x="0" y="2224"/>
                  </a:lnTo>
                  <a:lnTo>
                    <a:pt x="19" y="2332"/>
                  </a:lnTo>
                  <a:lnTo>
                    <a:pt x="80" y="2517"/>
                  </a:lnTo>
                  <a:lnTo>
                    <a:pt x="386" y="3068"/>
                  </a:lnTo>
                  <a:lnTo>
                    <a:pt x="595" y="3960"/>
                  </a:lnTo>
                  <a:lnTo>
                    <a:pt x="963" y="3979"/>
                  </a:lnTo>
                  <a:lnTo>
                    <a:pt x="1286" y="3980"/>
                  </a:lnTo>
                  <a:lnTo>
                    <a:pt x="1588" y="3941"/>
                  </a:lnTo>
                  <a:lnTo>
                    <a:pt x="1588" y="39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137600">
              <a:off x="1391760" y="847440"/>
              <a:ext cx="645840" cy="1032840"/>
            </a:xfrm>
            <a:custGeom>
              <a:avLst/>
              <a:gdLst/>
              <a:ahLst/>
              <a:rect l="l" t="t" r="r" b="b"/>
              <a:pathLst>
                <a:path w="1934" h="2635">
                  <a:moveTo>
                    <a:pt x="922" y="198"/>
                  </a:moveTo>
                  <a:lnTo>
                    <a:pt x="880" y="297"/>
                  </a:lnTo>
                  <a:lnTo>
                    <a:pt x="794" y="379"/>
                  </a:lnTo>
                  <a:lnTo>
                    <a:pt x="671" y="430"/>
                  </a:lnTo>
                  <a:lnTo>
                    <a:pt x="517" y="470"/>
                  </a:lnTo>
                  <a:lnTo>
                    <a:pt x="194" y="491"/>
                  </a:lnTo>
                  <a:lnTo>
                    <a:pt x="289" y="563"/>
                  </a:lnTo>
                  <a:lnTo>
                    <a:pt x="247" y="687"/>
                  </a:lnTo>
                  <a:lnTo>
                    <a:pt x="165" y="816"/>
                  </a:lnTo>
                  <a:lnTo>
                    <a:pt x="145" y="879"/>
                  </a:lnTo>
                  <a:lnTo>
                    <a:pt x="154" y="932"/>
                  </a:lnTo>
                  <a:lnTo>
                    <a:pt x="184" y="991"/>
                  </a:lnTo>
                  <a:lnTo>
                    <a:pt x="319" y="1012"/>
                  </a:lnTo>
                  <a:lnTo>
                    <a:pt x="403" y="1133"/>
                  </a:lnTo>
                  <a:lnTo>
                    <a:pt x="599" y="1217"/>
                  </a:lnTo>
                  <a:lnTo>
                    <a:pt x="713" y="1289"/>
                  </a:lnTo>
                  <a:lnTo>
                    <a:pt x="775" y="1409"/>
                  </a:lnTo>
                  <a:lnTo>
                    <a:pt x="775" y="1502"/>
                  </a:lnTo>
                  <a:lnTo>
                    <a:pt x="743" y="1595"/>
                  </a:lnTo>
                  <a:lnTo>
                    <a:pt x="587" y="1563"/>
                  </a:lnTo>
                  <a:lnTo>
                    <a:pt x="382" y="1472"/>
                  </a:lnTo>
                  <a:lnTo>
                    <a:pt x="259" y="1380"/>
                  </a:lnTo>
                  <a:lnTo>
                    <a:pt x="145" y="1268"/>
                  </a:lnTo>
                  <a:lnTo>
                    <a:pt x="40" y="1133"/>
                  </a:lnTo>
                  <a:lnTo>
                    <a:pt x="0" y="1074"/>
                  </a:lnTo>
                  <a:lnTo>
                    <a:pt x="114" y="1327"/>
                  </a:lnTo>
                  <a:lnTo>
                    <a:pt x="880" y="2635"/>
                  </a:lnTo>
                  <a:lnTo>
                    <a:pt x="1001" y="2623"/>
                  </a:lnTo>
                  <a:lnTo>
                    <a:pt x="1001" y="2196"/>
                  </a:lnTo>
                  <a:lnTo>
                    <a:pt x="1315" y="2105"/>
                  </a:lnTo>
                  <a:lnTo>
                    <a:pt x="1024" y="2023"/>
                  </a:lnTo>
                  <a:lnTo>
                    <a:pt x="952" y="1911"/>
                  </a:lnTo>
                  <a:lnTo>
                    <a:pt x="908" y="1850"/>
                  </a:lnTo>
                  <a:lnTo>
                    <a:pt x="1034" y="1605"/>
                  </a:lnTo>
                  <a:lnTo>
                    <a:pt x="1228" y="1747"/>
                  </a:lnTo>
                  <a:lnTo>
                    <a:pt x="1273" y="1595"/>
                  </a:lnTo>
                  <a:lnTo>
                    <a:pt x="1418" y="1675"/>
                  </a:lnTo>
                  <a:lnTo>
                    <a:pt x="1571" y="1808"/>
                  </a:lnTo>
                  <a:lnTo>
                    <a:pt x="1488" y="1472"/>
                  </a:lnTo>
                  <a:lnTo>
                    <a:pt x="1718" y="1327"/>
                  </a:lnTo>
                  <a:lnTo>
                    <a:pt x="1706" y="1061"/>
                  </a:lnTo>
                  <a:lnTo>
                    <a:pt x="1862" y="991"/>
                  </a:lnTo>
                  <a:lnTo>
                    <a:pt x="1862" y="1217"/>
                  </a:lnTo>
                  <a:lnTo>
                    <a:pt x="1788" y="1551"/>
                  </a:lnTo>
                  <a:lnTo>
                    <a:pt x="1676" y="1880"/>
                  </a:lnTo>
                  <a:lnTo>
                    <a:pt x="1541" y="2219"/>
                  </a:lnTo>
                  <a:lnTo>
                    <a:pt x="1541" y="2278"/>
                  </a:lnTo>
                  <a:lnTo>
                    <a:pt x="1621" y="2072"/>
                  </a:lnTo>
                  <a:lnTo>
                    <a:pt x="1758" y="1799"/>
                  </a:lnTo>
                  <a:lnTo>
                    <a:pt x="1841" y="1551"/>
                  </a:lnTo>
                  <a:lnTo>
                    <a:pt x="1923" y="1280"/>
                  </a:lnTo>
                  <a:lnTo>
                    <a:pt x="1934" y="1074"/>
                  </a:lnTo>
                  <a:lnTo>
                    <a:pt x="1923" y="687"/>
                  </a:lnTo>
                  <a:lnTo>
                    <a:pt x="1872" y="481"/>
                  </a:lnTo>
                  <a:lnTo>
                    <a:pt x="1809" y="367"/>
                  </a:lnTo>
                  <a:lnTo>
                    <a:pt x="1798" y="500"/>
                  </a:lnTo>
                  <a:lnTo>
                    <a:pt x="1748" y="635"/>
                  </a:lnTo>
                  <a:lnTo>
                    <a:pt x="1644" y="789"/>
                  </a:lnTo>
                  <a:lnTo>
                    <a:pt x="1581" y="848"/>
                  </a:lnTo>
                  <a:lnTo>
                    <a:pt x="1530" y="848"/>
                  </a:lnTo>
                  <a:lnTo>
                    <a:pt x="1437" y="816"/>
                  </a:lnTo>
                  <a:lnTo>
                    <a:pt x="1376" y="778"/>
                  </a:lnTo>
                  <a:lnTo>
                    <a:pt x="1332" y="726"/>
                  </a:lnTo>
                  <a:lnTo>
                    <a:pt x="1332" y="687"/>
                  </a:lnTo>
                  <a:lnTo>
                    <a:pt x="1427" y="500"/>
                  </a:lnTo>
                  <a:lnTo>
                    <a:pt x="1541" y="358"/>
                  </a:lnTo>
                  <a:lnTo>
                    <a:pt x="1551" y="236"/>
                  </a:lnTo>
                  <a:lnTo>
                    <a:pt x="1499" y="198"/>
                  </a:lnTo>
                  <a:lnTo>
                    <a:pt x="1476" y="327"/>
                  </a:lnTo>
                  <a:lnTo>
                    <a:pt x="1404" y="451"/>
                  </a:lnTo>
                  <a:lnTo>
                    <a:pt x="1315" y="593"/>
                  </a:lnTo>
                  <a:lnTo>
                    <a:pt x="1260" y="666"/>
                  </a:lnTo>
                  <a:lnTo>
                    <a:pt x="1188" y="666"/>
                  </a:lnTo>
                  <a:lnTo>
                    <a:pt x="1085" y="656"/>
                  </a:lnTo>
                  <a:lnTo>
                    <a:pt x="1057" y="603"/>
                  </a:lnTo>
                  <a:lnTo>
                    <a:pt x="1057" y="500"/>
                  </a:lnTo>
                  <a:lnTo>
                    <a:pt x="1201" y="175"/>
                  </a:lnTo>
                  <a:lnTo>
                    <a:pt x="1188" y="74"/>
                  </a:lnTo>
                  <a:lnTo>
                    <a:pt x="1127" y="0"/>
                  </a:lnTo>
                  <a:lnTo>
                    <a:pt x="1127" y="114"/>
                  </a:lnTo>
                  <a:lnTo>
                    <a:pt x="1096" y="255"/>
                  </a:lnTo>
                  <a:lnTo>
                    <a:pt x="1013" y="460"/>
                  </a:lnTo>
                  <a:lnTo>
                    <a:pt x="962" y="563"/>
                  </a:lnTo>
                  <a:lnTo>
                    <a:pt x="931" y="593"/>
                  </a:lnTo>
                  <a:lnTo>
                    <a:pt x="848" y="593"/>
                  </a:lnTo>
                  <a:lnTo>
                    <a:pt x="775" y="571"/>
                  </a:lnTo>
                  <a:lnTo>
                    <a:pt x="735" y="523"/>
                  </a:lnTo>
                  <a:lnTo>
                    <a:pt x="743" y="481"/>
                  </a:lnTo>
                  <a:lnTo>
                    <a:pt x="867" y="430"/>
                  </a:lnTo>
                  <a:lnTo>
                    <a:pt x="941" y="327"/>
                  </a:lnTo>
                  <a:lnTo>
                    <a:pt x="962" y="185"/>
                  </a:lnTo>
                  <a:lnTo>
                    <a:pt x="922" y="198"/>
                  </a:lnTo>
                  <a:lnTo>
                    <a:pt x="922" y="19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137600">
              <a:off x="1220040" y="1845360"/>
              <a:ext cx="647280" cy="103320"/>
            </a:xfrm>
            <a:custGeom>
              <a:avLst/>
              <a:gdLst/>
              <a:ahLst/>
              <a:rect l="l" t="t" r="r" b="b"/>
              <a:pathLst>
                <a:path w="1938" h="264">
                  <a:moveTo>
                    <a:pt x="1938" y="264"/>
                  </a:moveTo>
                  <a:lnTo>
                    <a:pt x="0" y="264"/>
                  </a:lnTo>
                  <a:lnTo>
                    <a:pt x="0" y="40"/>
                  </a:lnTo>
                  <a:lnTo>
                    <a:pt x="111" y="0"/>
                  </a:lnTo>
                  <a:lnTo>
                    <a:pt x="1938" y="19"/>
                  </a:lnTo>
                  <a:lnTo>
                    <a:pt x="1938" y="264"/>
                  </a:lnTo>
                  <a:lnTo>
                    <a:pt x="1938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137600">
              <a:off x="1507680" y="1865160"/>
              <a:ext cx="331920" cy="72000"/>
            </a:xfrm>
            <a:custGeom>
              <a:avLst/>
              <a:gdLst/>
              <a:ahLst/>
              <a:rect l="l" t="t" r="r" b="b"/>
              <a:pathLst>
                <a:path w="994" h="185">
                  <a:moveTo>
                    <a:pt x="994" y="0"/>
                  </a:moveTo>
                  <a:lnTo>
                    <a:pt x="954" y="108"/>
                  </a:lnTo>
                  <a:lnTo>
                    <a:pt x="576" y="185"/>
                  </a:lnTo>
                  <a:lnTo>
                    <a:pt x="110" y="185"/>
                  </a:lnTo>
                  <a:lnTo>
                    <a:pt x="0" y="78"/>
                  </a:lnTo>
                  <a:lnTo>
                    <a:pt x="754" y="31"/>
                  </a:lnTo>
                  <a:lnTo>
                    <a:pt x="902" y="21"/>
                  </a:lnTo>
                  <a:lnTo>
                    <a:pt x="994" y="0"/>
                  </a:lnTo>
                  <a:lnTo>
                    <a:pt x="9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137600">
              <a:off x="1276560" y="1736640"/>
              <a:ext cx="305640" cy="115200"/>
            </a:xfrm>
            <a:custGeom>
              <a:avLst/>
              <a:gdLst/>
              <a:ahLst/>
              <a:rect l="l" t="t" r="r" b="b"/>
              <a:pathLst>
                <a:path w="916" h="293">
                  <a:moveTo>
                    <a:pt x="270" y="0"/>
                  </a:moveTo>
                  <a:lnTo>
                    <a:pt x="91" y="38"/>
                  </a:lnTo>
                  <a:lnTo>
                    <a:pt x="0" y="78"/>
                  </a:lnTo>
                  <a:lnTo>
                    <a:pt x="13" y="226"/>
                  </a:lnTo>
                  <a:lnTo>
                    <a:pt x="270" y="283"/>
                  </a:lnTo>
                  <a:lnTo>
                    <a:pt x="916" y="293"/>
                  </a:lnTo>
                  <a:lnTo>
                    <a:pt x="828" y="255"/>
                  </a:lnTo>
                  <a:lnTo>
                    <a:pt x="845" y="197"/>
                  </a:lnTo>
                  <a:lnTo>
                    <a:pt x="427" y="139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137600">
              <a:off x="1823400" y="1257120"/>
              <a:ext cx="63360" cy="93240"/>
            </a:xfrm>
            <a:custGeom>
              <a:avLst/>
              <a:gdLst/>
              <a:ahLst/>
              <a:rect l="l" t="t" r="r" b="b"/>
              <a:pathLst>
                <a:path w="190" h="237">
                  <a:moveTo>
                    <a:pt x="124" y="201"/>
                  </a:moveTo>
                  <a:lnTo>
                    <a:pt x="179" y="119"/>
                  </a:lnTo>
                  <a:lnTo>
                    <a:pt x="190" y="89"/>
                  </a:lnTo>
                  <a:lnTo>
                    <a:pt x="190" y="49"/>
                  </a:lnTo>
                  <a:lnTo>
                    <a:pt x="170" y="11"/>
                  </a:lnTo>
                  <a:lnTo>
                    <a:pt x="124" y="0"/>
                  </a:lnTo>
                  <a:lnTo>
                    <a:pt x="82" y="7"/>
                  </a:lnTo>
                  <a:lnTo>
                    <a:pt x="54" y="34"/>
                  </a:lnTo>
                  <a:lnTo>
                    <a:pt x="35" y="62"/>
                  </a:lnTo>
                  <a:lnTo>
                    <a:pt x="12" y="108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6" y="228"/>
                  </a:lnTo>
                  <a:lnTo>
                    <a:pt x="44" y="237"/>
                  </a:lnTo>
                  <a:lnTo>
                    <a:pt x="76" y="231"/>
                  </a:lnTo>
                  <a:lnTo>
                    <a:pt x="109" y="214"/>
                  </a:lnTo>
                  <a:lnTo>
                    <a:pt x="124" y="201"/>
                  </a:lnTo>
                  <a:lnTo>
                    <a:pt x="124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137600">
              <a:off x="1760760" y="1206360"/>
              <a:ext cx="63360" cy="11052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86" y="44"/>
                  </a:moveTo>
                  <a:lnTo>
                    <a:pt x="190" y="84"/>
                  </a:lnTo>
                  <a:lnTo>
                    <a:pt x="180" y="128"/>
                  </a:lnTo>
                  <a:lnTo>
                    <a:pt x="154" y="192"/>
                  </a:lnTo>
                  <a:lnTo>
                    <a:pt x="114" y="257"/>
                  </a:lnTo>
                  <a:lnTo>
                    <a:pt x="78" y="284"/>
                  </a:lnTo>
                  <a:lnTo>
                    <a:pt x="44" y="280"/>
                  </a:lnTo>
                  <a:lnTo>
                    <a:pt x="15" y="261"/>
                  </a:lnTo>
                  <a:lnTo>
                    <a:pt x="0" y="217"/>
                  </a:lnTo>
                  <a:lnTo>
                    <a:pt x="0" y="149"/>
                  </a:lnTo>
                  <a:lnTo>
                    <a:pt x="15" y="71"/>
                  </a:lnTo>
                  <a:lnTo>
                    <a:pt x="28" y="38"/>
                  </a:lnTo>
                  <a:lnTo>
                    <a:pt x="49" y="8"/>
                  </a:lnTo>
                  <a:lnTo>
                    <a:pt x="87" y="0"/>
                  </a:lnTo>
                  <a:lnTo>
                    <a:pt x="123" y="0"/>
                  </a:lnTo>
                  <a:lnTo>
                    <a:pt x="161" y="14"/>
                  </a:lnTo>
                  <a:lnTo>
                    <a:pt x="186" y="44"/>
                  </a:lnTo>
                  <a:lnTo>
                    <a:pt x="186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137600">
              <a:off x="1695960" y="1144080"/>
              <a:ext cx="57240" cy="110520"/>
            </a:xfrm>
            <a:custGeom>
              <a:avLst/>
              <a:gdLst/>
              <a:ahLst/>
              <a:rect l="l" t="t" r="r" b="b"/>
              <a:pathLst>
                <a:path w="173" h="281">
                  <a:moveTo>
                    <a:pt x="157" y="42"/>
                  </a:moveTo>
                  <a:lnTo>
                    <a:pt x="173" y="76"/>
                  </a:lnTo>
                  <a:lnTo>
                    <a:pt x="169" y="139"/>
                  </a:lnTo>
                  <a:lnTo>
                    <a:pt x="155" y="183"/>
                  </a:lnTo>
                  <a:lnTo>
                    <a:pt x="123" y="255"/>
                  </a:lnTo>
                  <a:lnTo>
                    <a:pt x="98" y="281"/>
                  </a:lnTo>
                  <a:lnTo>
                    <a:pt x="66" y="281"/>
                  </a:lnTo>
                  <a:lnTo>
                    <a:pt x="32" y="274"/>
                  </a:lnTo>
                  <a:lnTo>
                    <a:pt x="19" y="249"/>
                  </a:lnTo>
                  <a:lnTo>
                    <a:pt x="2" y="209"/>
                  </a:lnTo>
                  <a:lnTo>
                    <a:pt x="0" y="158"/>
                  </a:lnTo>
                  <a:lnTo>
                    <a:pt x="5" y="105"/>
                  </a:lnTo>
                  <a:lnTo>
                    <a:pt x="15" y="61"/>
                  </a:lnTo>
                  <a:lnTo>
                    <a:pt x="28" y="27"/>
                  </a:lnTo>
                  <a:lnTo>
                    <a:pt x="74" y="0"/>
                  </a:lnTo>
                  <a:lnTo>
                    <a:pt x="119" y="12"/>
                  </a:lnTo>
                  <a:lnTo>
                    <a:pt x="146" y="29"/>
                  </a:lnTo>
                  <a:lnTo>
                    <a:pt x="157" y="42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137600">
              <a:off x="1745640" y="870840"/>
              <a:ext cx="147240" cy="84600"/>
            </a:xfrm>
            <a:custGeom>
              <a:avLst/>
              <a:gdLst/>
              <a:ahLst/>
              <a:rect l="l" t="t" r="r" b="b"/>
              <a:pathLst>
                <a:path w="443" h="214">
                  <a:moveTo>
                    <a:pt x="443" y="32"/>
                  </a:moveTo>
                  <a:lnTo>
                    <a:pt x="415" y="81"/>
                  </a:lnTo>
                  <a:lnTo>
                    <a:pt x="340" y="148"/>
                  </a:lnTo>
                  <a:lnTo>
                    <a:pt x="270" y="186"/>
                  </a:lnTo>
                  <a:lnTo>
                    <a:pt x="169" y="207"/>
                  </a:lnTo>
                  <a:lnTo>
                    <a:pt x="92" y="214"/>
                  </a:lnTo>
                  <a:lnTo>
                    <a:pt x="40" y="207"/>
                  </a:lnTo>
                  <a:lnTo>
                    <a:pt x="10" y="174"/>
                  </a:lnTo>
                  <a:lnTo>
                    <a:pt x="0" y="108"/>
                  </a:lnTo>
                  <a:lnTo>
                    <a:pt x="105" y="60"/>
                  </a:lnTo>
                  <a:lnTo>
                    <a:pt x="221" y="28"/>
                  </a:lnTo>
                  <a:lnTo>
                    <a:pt x="316" y="7"/>
                  </a:lnTo>
                  <a:lnTo>
                    <a:pt x="396" y="0"/>
                  </a:lnTo>
                  <a:lnTo>
                    <a:pt x="434" y="13"/>
                  </a:lnTo>
                  <a:lnTo>
                    <a:pt x="443" y="32"/>
                  </a:lnTo>
                  <a:lnTo>
                    <a:pt x="443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137600">
              <a:off x="1883880" y="302760"/>
              <a:ext cx="54000" cy="30960"/>
            </a:xfrm>
            <a:custGeom>
              <a:avLst/>
              <a:gdLst/>
              <a:ahLst/>
              <a:rect l="l" t="t" r="r" b="b"/>
              <a:pathLst>
                <a:path w="161" h="80">
                  <a:moveTo>
                    <a:pt x="161" y="80"/>
                  </a:moveTo>
                  <a:lnTo>
                    <a:pt x="135" y="21"/>
                  </a:lnTo>
                  <a:lnTo>
                    <a:pt x="100" y="2"/>
                  </a:lnTo>
                  <a:lnTo>
                    <a:pt x="72" y="0"/>
                  </a:lnTo>
                  <a:lnTo>
                    <a:pt x="26" y="11"/>
                  </a:lnTo>
                  <a:lnTo>
                    <a:pt x="0" y="78"/>
                  </a:lnTo>
                  <a:lnTo>
                    <a:pt x="49" y="61"/>
                  </a:lnTo>
                  <a:lnTo>
                    <a:pt x="116" y="61"/>
                  </a:lnTo>
                  <a:lnTo>
                    <a:pt x="161" y="80"/>
                  </a:lnTo>
                  <a:lnTo>
                    <a:pt x="161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137600">
              <a:off x="1746720" y="887040"/>
              <a:ext cx="140760" cy="60120"/>
            </a:xfrm>
            <a:custGeom>
              <a:avLst/>
              <a:gdLst/>
              <a:ahLst/>
              <a:rect l="l" t="t" r="r" b="b"/>
              <a:pathLst>
                <a:path w="422" h="154">
                  <a:moveTo>
                    <a:pt x="401" y="34"/>
                  </a:moveTo>
                  <a:lnTo>
                    <a:pt x="239" y="82"/>
                  </a:lnTo>
                  <a:lnTo>
                    <a:pt x="21" y="154"/>
                  </a:lnTo>
                  <a:lnTo>
                    <a:pt x="0" y="107"/>
                  </a:lnTo>
                  <a:lnTo>
                    <a:pt x="205" y="38"/>
                  </a:lnTo>
                  <a:lnTo>
                    <a:pt x="346" y="10"/>
                  </a:lnTo>
                  <a:lnTo>
                    <a:pt x="422" y="0"/>
                  </a:lnTo>
                  <a:lnTo>
                    <a:pt x="401" y="34"/>
                  </a:lnTo>
                  <a:lnTo>
                    <a:pt x="401" y="34"/>
                  </a:lnTo>
                  <a:close/>
                </a:path>
              </a:pathLst>
            </a:custGeom>
            <a:solidFill>
              <a:srgbClr val="f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37600">
              <a:off x="1706040" y="1154160"/>
              <a:ext cx="18360" cy="84600"/>
            </a:xfrm>
            <a:custGeom>
              <a:avLst/>
              <a:gdLst/>
              <a:ahLst/>
              <a:rect l="l" t="t" r="r" b="b"/>
              <a:pathLst>
                <a:path w="55" h="215">
                  <a:moveTo>
                    <a:pt x="55" y="0"/>
                  </a:moveTo>
                  <a:lnTo>
                    <a:pt x="32" y="76"/>
                  </a:lnTo>
                  <a:lnTo>
                    <a:pt x="17" y="145"/>
                  </a:lnTo>
                  <a:lnTo>
                    <a:pt x="13" y="215"/>
                  </a:lnTo>
                  <a:lnTo>
                    <a:pt x="0" y="137"/>
                  </a:lnTo>
                  <a:lnTo>
                    <a:pt x="0" y="84"/>
                  </a:lnTo>
                  <a:lnTo>
                    <a:pt x="12" y="25"/>
                  </a:lnTo>
                  <a:lnTo>
                    <a:pt x="17" y="8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137600">
              <a:off x="1776960" y="1215000"/>
              <a:ext cx="16560" cy="65880"/>
            </a:xfrm>
            <a:custGeom>
              <a:avLst/>
              <a:gdLst/>
              <a:ahLst/>
              <a:rect l="l" t="t" r="r" b="b"/>
              <a:pathLst>
                <a:path w="51" h="169">
                  <a:moveTo>
                    <a:pt x="51" y="0"/>
                  </a:moveTo>
                  <a:lnTo>
                    <a:pt x="38" y="45"/>
                  </a:lnTo>
                  <a:lnTo>
                    <a:pt x="21" y="104"/>
                  </a:lnTo>
                  <a:lnTo>
                    <a:pt x="8" y="169"/>
                  </a:lnTo>
                  <a:lnTo>
                    <a:pt x="0" y="83"/>
                  </a:lnTo>
                  <a:lnTo>
                    <a:pt x="6" y="28"/>
                  </a:lnTo>
                  <a:lnTo>
                    <a:pt x="15" y="5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137600">
              <a:off x="1834560" y="1266480"/>
              <a:ext cx="30600" cy="5616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91" y="2"/>
                  </a:moveTo>
                  <a:lnTo>
                    <a:pt x="53" y="47"/>
                  </a:lnTo>
                  <a:lnTo>
                    <a:pt x="21" y="97"/>
                  </a:lnTo>
                  <a:lnTo>
                    <a:pt x="0" y="144"/>
                  </a:lnTo>
                  <a:lnTo>
                    <a:pt x="25" y="72"/>
                  </a:lnTo>
                  <a:lnTo>
                    <a:pt x="42" y="32"/>
                  </a:lnTo>
                  <a:lnTo>
                    <a:pt x="59" y="6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f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137600">
              <a:off x="1746360" y="891000"/>
              <a:ext cx="139680" cy="50040"/>
            </a:xfrm>
            <a:custGeom>
              <a:avLst/>
              <a:gdLst/>
              <a:ahLst/>
              <a:rect l="l" t="t" r="r" b="b"/>
              <a:pathLst>
                <a:path w="418" h="127">
                  <a:moveTo>
                    <a:pt x="414" y="13"/>
                  </a:moveTo>
                  <a:lnTo>
                    <a:pt x="272" y="45"/>
                  </a:lnTo>
                  <a:lnTo>
                    <a:pt x="86" y="102"/>
                  </a:lnTo>
                  <a:lnTo>
                    <a:pt x="11" y="127"/>
                  </a:lnTo>
                  <a:lnTo>
                    <a:pt x="0" y="118"/>
                  </a:lnTo>
                  <a:lnTo>
                    <a:pt x="110" y="76"/>
                  </a:lnTo>
                  <a:lnTo>
                    <a:pt x="258" y="36"/>
                  </a:lnTo>
                  <a:lnTo>
                    <a:pt x="418" y="0"/>
                  </a:lnTo>
                  <a:lnTo>
                    <a:pt x="414" y="13"/>
                  </a:lnTo>
                  <a:lnTo>
                    <a:pt x="414" y="13"/>
                  </a:lnTo>
                  <a:close/>
                </a:path>
              </a:pathLst>
            </a:custGeom>
            <a:solidFill>
              <a:srgbClr val="fc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137600">
              <a:off x="1714320" y="1161360"/>
              <a:ext cx="9360" cy="4464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8" y="0"/>
                  </a:moveTo>
                  <a:lnTo>
                    <a:pt x="5" y="61"/>
                  </a:lnTo>
                  <a:lnTo>
                    <a:pt x="0" y="115"/>
                  </a:lnTo>
                  <a:lnTo>
                    <a:pt x="0" y="46"/>
                  </a:lnTo>
                  <a:lnTo>
                    <a:pt x="5" y="8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137600">
              <a:off x="1783800" y="1220760"/>
              <a:ext cx="9360" cy="32040"/>
            </a:xfrm>
            <a:custGeom>
              <a:avLst/>
              <a:gdLst/>
              <a:ahLst/>
              <a:rect l="l" t="t" r="r" b="b"/>
              <a:pathLst>
                <a:path w="27" h="84">
                  <a:moveTo>
                    <a:pt x="27" y="0"/>
                  </a:moveTo>
                  <a:lnTo>
                    <a:pt x="0" y="84"/>
                  </a:lnTo>
                  <a:lnTo>
                    <a:pt x="0" y="32"/>
                  </a:lnTo>
                  <a:lnTo>
                    <a:pt x="8" y="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137600">
              <a:off x="1849680" y="1273680"/>
              <a:ext cx="12600" cy="201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38" y="4"/>
                  </a:moveTo>
                  <a:lnTo>
                    <a:pt x="0" y="53"/>
                  </a:lnTo>
                  <a:lnTo>
                    <a:pt x="12" y="19"/>
                  </a:lnTo>
                  <a:lnTo>
                    <a:pt x="25" y="0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37600">
              <a:off x="1746000" y="307080"/>
              <a:ext cx="131400" cy="599760"/>
            </a:xfrm>
            <a:custGeom>
              <a:avLst/>
              <a:gdLst/>
              <a:ahLst/>
              <a:rect l="l" t="t" r="r" b="b"/>
              <a:pathLst>
                <a:path w="393" h="1530">
                  <a:moveTo>
                    <a:pt x="51" y="1509"/>
                  </a:moveTo>
                  <a:lnTo>
                    <a:pt x="93" y="245"/>
                  </a:lnTo>
                  <a:lnTo>
                    <a:pt x="112" y="133"/>
                  </a:lnTo>
                  <a:lnTo>
                    <a:pt x="154" y="82"/>
                  </a:lnTo>
                  <a:lnTo>
                    <a:pt x="218" y="91"/>
                  </a:lnTo>
                  <a:lnTo>
                    <a:pt x="256" y="133"/>
                  </a:lnTo>
                  <a:lnTo>
                    <a:pt x="277" y="224"/>
                  </a:lnTo>
                  <a:lnTo>
                    <a:pt x="277" y="673"/>
                  </a:lnTo>
                  <a:lnTo>
                    <a:pt x="289" y="1275"/>
                  </a:lnTo>
                  <a:lnTo>
                    <a:pt x="298" y="1488"/>
                  </a:lnTo>
                  <a:lnTo>
                    <a:pt x="393" y="1439"/>
                  </a:lnTo>
                  <a:lnTo>
                    <a:pt x="353" y="804"/>
                  </a:lnTo>
                  <a:lnTo>
                    <a:pt x="340" y="336"/>
                  </a:lnTo>
                  <a:lnTo>
                    <a:pt x="330" y="162"/>
                  </a:lnTo>
                  <a:lnTo>
                    <a:pt x="277" y="30"/>
                  </a:lnTo>
                  <a:lnTo>
                    <a:pt x="196" y="0"/>
                  </a:lnTo>
                  <a:lnTo>
                    <a:pt x="112" y="40"/>
                  </a:lnTo>
                  <a:lnTo>
                    <a:pt x="72" y="101"/>
                  </a:lnTo>
                  <a:lnTo>
                    <a:pt x="51" y="336"/>
                  </a:lnTo>
                  <a:lnTo>
                    <a:pt x="0" y="1530"/>
                  </a:lnTo>
                  <a:lnTo>
                    <a:pt x="51" y="1509"/>
                  </a:lnTo>
                  <a:lnTo>
                    <a:pt x="51" y="150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137600">
              <a:off x="1301760" y="1801800"/>
              <a:ext cx="549720" cy="63360"/>
            </a:xfrm>
            <a:custGeom>
              <a:avLst/>
              <a:gdLst/>
              <a:ahLst/>
              <a:rect l="l" t="t" r="r" b="b"/>
              <a:pathLst>
                <a:path w="1645" h="161">
                  <a:moveTo>
                    <a:pt x="1321" y="36"/>
                  </a:moveTo>
                  <a:lnTo>
                    <a:pt x="1524" y="78"/>
                  </a:lnTo>
                  <a:lnTo>
                    <a:pt x="1645" y="72"/>
                  </a:lnTo>
                  <a:lnTo>
                    <a:pt x="1455" y="112"/>
                  </a:lnTo>
                  <a:lnTo>
                    <a:pt x="1186" y="140"/>
                  </a:lnTo>
                  <a:lnTo>
                    <a:pt x="754" y="161"/>
                  </a:lnTo>
                  <a:lnTo>
                    <a:pt x="543" y="156"/>
                  </a:lnTo>
                  <a:lnTo>
                    <a:pt x="298" y="140"/>
                  </a:lnTo>
                  <a:lnTo>
                    <a:pt x="91" y="104"/>
                  </a:lnTo>
                  <a:lnTo>
                    <a:pt x="0" y="78"/>
                  </a:lnTo>
                  <a:lnTo>
                    <a:pt x="8" y="51"/>
                  </a:lnTo>
                  <a:lnTo>
                    <a:pt x="44" y="28"/>
                  </a:lnTo>
                  <a:lnTo>
                    <a:pt x="171" y="0"/>
                  </a:lnTo>
                  <a:lnTo>
                    <a:pt x="171" y="93"/>
                  </a:lnTo>
                  <a:lnTo>
                    <a:pt x="551" y="127"/>
                  </a:lnTo>
                  <a:lnTo>
                    <a:pt x="954" y="127"/>
                  </a:lnTo>
                  <a:lnTo>
                    <a:pt x="1321" y="97"/>
                  </a:lnTo>
                  <a:lnTo>
                    <a:pt x="1321" y="36"/>
                  </a:lnTo>
                  <a:lnTo>
                    <a:pt x="13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137600">
              <a:off x="1279440" y="1703160"/>
              <a:ext cx="43200" cy="81360"/>
            </a:xfrm>
            <a:custGeom>
              <a:avLst/>
              <a:gdLst/>
              <a:ahLst/>
              <a:rect l="l" t="t" r="r" b="b"/>
              <a:pathLst>
                <a:path w="131" h="209">
                  <a:moveTo>
                    <a:pt x="131" y="0"/>
                  </a:moveTo>
                  <a:lnTo>
                    <a:pt x="34" y="48"/>
                  </a:lnTo>
                  <a:lnTo>
                    <a:pt x="82" y="168"/>
                  </a:lnTo>
                  <a:lnTo>
                    <a:pt x="34" y="132"/>
                  </a:lnTo>
                  <a:lnTo>
                    <a:pt x="34" y="209"/>
                  </a:lnTo>
                  <a:lnTo>
                    <a:pt x="0" y="202"/>
                  </a:lnTo>
                  <a:lnTo>
                    <a:pt x="13" y="139"/>
                  </a:lnTo>
                  <a:lnTo>
                    <a:pt x="0" y="54"/>
                  </a:lnTo>
                  <a:lnTo>
                    <a:pt x="26" y="1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37600">
              <a:off x="1236240" y="1822320"/>
              <a:ext cx="651240" cy="89280"/>
            </a:xfrm>
            <a:custGeom>
              <a:avLst/>
              <a:gdLst/>
              <a:ahLst/>
              <a:rect l="l" t="t" r="r" b="b"/>
              <a:pathLst>
                <a:path w="1949" h="228">
                  <a:moveTo>
                    <a:pt x="1820" y="0"/>
                  </a:moveTo>
                  <a:lnTo>
                    <a:pt x="1814" y="74"/>
                  </a:lnTo>
                  <a:lnTo>
                    <a:pt x="1949" y="87"/>
                  </a:lnTo>
                  <a:lnTo>
                    <a:pt x="1643" y="167"/>
                  </a:lnTo>
                  <a:lnTo>
                    <a:pt x="1354" y="207"/>
                  </a:lnTo>
                  <a:lnTo>
                    <a:pt x="1079" y="220"/>
                  </a:lnTo>
                  <a:lnTo>
                    <a:pt x="788" y="228"/>
                  </a:lnTo>
                  <a:lnTo>
                    <a:pt x="535" y="220"/>
                  </a:lnTo>
                  <a:lnTo>
                    <a:pt x="267" y="192"/>
                  </a:lnTo>
                  <a:lnTo>
                    <a:pt x="77" y="175"/>
                  </a:lnTo>
                  <a:lnTo>
                    <a:pt x="0" y="123"/>
                  </a:lnTo>
                  <a:lnTo>
                    <a:pt x="64" y="110"/>
                  </a:lnTo>
                  <a:lnTo>
                    <a:pt x="205" y="144"/>
                  </a:lnTo>
                  <a:lnTo>
                    <a:pt x="499" y="186"/>
                  </a:lnTo>
                  <a:lnTo>
                    <a:pt x="811" y="192"/>
                  </a:lnTo>
                  <a:lnTo>
                    <a:pt x="1162" y="186"/>
                  </a:lnTo>
                  <a:lnTo>
                    <a:pt x="1487" y="158"/>
                  </a:lnTo>
                  <a:lnTo>
                    <a:pt x="1784" y="102"/>
                  </a:lnTo>
                  <a:lnTo>
                    <a:pt x="1820" y="0"/>
                  </a:lnTo>
                  <a:lnTo>
                    <a:pt x="18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37600">
              <a:off x="1845360" y="1958040"/>
              <a:ext cx="9360" cy="98640"/>
            </a:xfrm>
            <a:custGeom>
              <a:avLst/>
              <a:gdLst/>
              <a:ahLst/>
              <a:rect l="l" t="t" r="r" b="b"/>
              <a:pathLst>
                <a:path w="28" h="253">
                  <a:moveTo>
                    <a:pt x="28" y="0"/>
                  </a:moveTo>
                  <a:lnTo>
                    <a:pt x="28" y="253"/>
                  </a:lnTo>
                  <a:lnTo>
                    <a:pt x="0" y="253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37600">
              <a:off x="1229760" y="1747800"/>
              <a:ext cx="18360" cy="9864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5" y="0"/>
                  </a:moveTo>
                  <a:lnTo>
                    <a:pt x="8" y="29"/>
                  </a:lnTo>
                  <a:lnTo>
                    <a:pt x="0" y="253"/>
                  </a:lnTo>
                  <a:lnTo>
                    <a:pt x="35" y="253"/>
                  </a:lnTo>
                  <a:lnTo>
                    <a:pt x="35" y="3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37600">
              <a:off x="1664280" y="880200"/>
              <a:ext cx="372600" cy="1028160"/>
            </a:xfrm>
            <a:custGeom>
              <a:avLst/>
              <a:gdLst/>
              <a:ahLst/>
              <a:rect l="l" t="t" r="r" b="b"/>
              <a:pathLst>
                <a:path w="1115" h="2621">
                  <a:moveTo>
                    <a:pt x="693" y="2610"/>
                  </a:moveTo>
                  <a:lnTo>
                    <a:pt x="693" y="2464"/>
                  </a:lnTo>
                  <a:lnTo>
                    <a:pt x="699" y="2370"/>
                  </a:lnTo>
                  <a:lnTo>
                    <a:pt x="726" y="2254"/>
                  </a:lnTo>
                  <a:lnTo>
                    <a:pt x="783" y="2116"/>
                  </a:lnTo>
                  <a:lnTo>
                    <a:pt x="883" y="1907"/>
                  </a:lnTo>
                  <a:lnTo>
                    <a:pt x="959" y="1739"/>
                  </a:lnTo>
                  <a:lnTo>
                    <a:pt x="1024" y="1559"/>
                  </a:lnTo>
                  <a:lnTo>
                    <a:pt x="1058" y="1392"/>
                  </a:lnTo>
                  <a:lnTo>
                    <a:pt x="1088" y="1238"/>
                  </a:lnTo>
                  <a:lnTo>
                    <a:pt x="1088" y="702"/>
                  </a:lnTo>
                  <a:lnTo>
                    <a:pt x="1045" y="521"/>
                  </a:lnTo>
                  <a:lnTo>
                    <a:pt x="1024" y="563"/>
                  </a:lnTo>
                  <a:lnTo>
                    <a:pt x="1003" y="453"/>
                  </a:lnTo>
                  <a:lnTo>
                    <a:pt x="967" y="401"/>
                  </a:lnTo>
                  <a:lnTo>
                    <a:pt x="904" y="367"/>
                  </a:lnTo>
                  <a:lnTo>
                    <a:pt x="819" y="361"/>
                  </a:lnTo>
                  <a:lnTo>
                    <a:pt x="756" y="382"/>
                  </a:lnTo>
                  <a:lnTo>
                    <a:pt x="699" y="439"/>
                  </a:lnTo>
                  <a:lnTo>
                    <a:pt x="594" y="586"/>
                  </a:lnTo>
                  <a:lnTo>
                    <a:pt x="496" y="772"/>
                  </a:lnTo>
                  <a:lnTo>
                    <a:pt x="423" y="947"/>
                  </a:lnTo>
                  <a:lnTo>
                    <a:pt x="384" y="1065"/>
                  </a:lnTo>
                  <a:lnTo>
                    <a:pt x="418" y="926"/>
                  </a:lnTo>
                  <a:lnTo>
                    <a:pt x="482" y="759"/>
                  </a:lnTo>
                  <a:lnTo>
                    <a:pt x="553" y="605"/>
                  </a:lnTo>
                  <a:lnTo>
                    <a:pt x="642" y="466"/>
                  </a:lnTo>
                  <a:lnTo>
                    <a:pt x="693" y="401"/>
                  </a:lnTo>
                  <a:lnTo>
                    <a:pt x="707" y="361"/>
                  </a:lnTo>
                  <a:lnTo>
                    <a:pt x="707" y="312"/>
                  </a:lnTo>
                  <a:lnTo>
                    <a:pt x="676" y="238"/>
                  </a:lnTo>
                  <a:lnTo>
                    <a:pt x="613" y="186"/>
                  </a:lnTo>
                  <a:lnTo>
                    <a:pt x="522" y="165"/>
                  </a:lnTo>
                  <a:lnTo>
                    <a:pt x="437" y="179"/>
                  </a:lnTo>
                  <a:lnTo>
                    <a:pt x="387" y="238"/>
                  </a:lnTo>
                  <a:lnTo>
                    <a:pt x="311" y="367"/>
                  </a:lnTo>
                  <a:lnTo>
                    <a:pt x="235" y="549"/>
                  </a:lnTo>
                  <a:lnTo>
                    <a:pt x="205" y="673"/>
                  </a:lnTo>
                  <a:lnTo>
                    <a:pt x="176" y="793"/>
                  </a:lnTo>
                  <a:lnTo>
                    <a:pt x="154" y="952"/>
                  </a:lnTo>
                  <a:lnTo>
                    <a:pt x="100" y="975"/>
                  </a:lnTo>
                  <a:lnTo>
                    <a:pt x="129" y="916"/>
                  </a:lnTo>
                  <a:lnTo>
                    <a:pt x="154" y="829"/>
                  </a:lnTo>
                  <a:lnTo>
                    <a:pt x="176" y="717"/>
                  </a:lnTo>
                  <a:lnTo>
                    <a:pt x="220" y="549"/>
                  </a:lnTo>
                  <a:lnTo>
                    <a:pt x="275" y="390"/>
                  </a:lnTo>
                  <a:lnTo>
                    <a:pt x="340" y="238"/>
                  </a:lnTo>
                  <a:lnTo>
                    <a:pt x="353" y="202"/>
                  </a:lnTo>
                  <a:lnTo>
                    <a:pt x="353" y="146"/>
                  </a:lnTo>
                  <a:lnTo>
                    <a:pt x="325" y="89"/>
                  </a:lnTo>
                  <a:lnTo>
                    <a:pt x="262" y="40"/>
                  </a:lnTo>
                  <a:lnTo>
                    <a:pt x="137" y="32"/>
                  </a:lnTo>
                  <a:lnTo>
                    <a:pt x="64" y="82"/>
                  </a:lnTo>
                  <a:lnTo>
                    <a:pt x="0" y="97"/>
                  </a:lnTo>
                  <a:lnTo>
                    <a:pt x="57" y="32"/>
                  </a:lnTo>
                  <a:lnTo>
                    <a:pt x="140" y="0"/>
                  </a:lnTo>
                  <a:lnTo>
                    <a:pt x="283" y="12"/>
                  </a:lnTo>
                  <a:lnTo>
                    <a:pt x="353" y="63"/>
                  </a:lnTo>
                  <a:lnTo>
                    <a:pt x="403" y="160"/>
                  </a:lnTo>
                  <a:lnTo>
                    <a:pt x="496" y="126"/>
                  </a:lnTo>
                  <a:lnTo>
                    <a:pt x="623" y="146"/>
                  </a:lnTo>
                  <a:lnTo>
                    <a:pt x="712" y="228"/>
                  </a:lnTo>
                  <a:lnTo>
                    <a:pt x="756" y="348"/>
                  </a:lnTo>
                  <a:lnTo>
                    <a:pt x="868" y="325"/>
                  </a:lnTo>
                  <a:lnTo>
                    <a:pt x="967" y="348"/>
                  </a:lnTo>
                  <a:lnTo>
                    <a:pt x="1045" y="424"/>
                  </a:lnTo>
                  <a:lnTo>
                    <a:pt x="1094" y="549"/>
                  </a:lnTo>
                  <a:lnTo>
                    <a:pt x="1115" y="751"/>
                  </a:lnTo>
                  <a:lnTo>
                    <a:pt x="1115" y="1135"/>
                  </a:lnTo>
                  <a:lnTo>
                    <a:pt x="1094" y="1329"/>
                  </a:lnTo>
                  <a:lnTo>
                    <a:pt x="1039" y="1601"/>
                  </a:lnTo>
                  <a:lnTo>
                    <a:pt x="923" y="1886"/>
                  </a:lnTo>
                  <a:lnTo>
                    <a:pt x="775" y="2184"/>
                  </a:lnTo>
                  <a:lnTo>
                    <a:pt x="726" y="2351"/>
                  </a:lnTo>
                  <a:lnTo>
                    <a:pt x="726" y="2621"/>
                  </a:lnTo>
                  <a:lnTo>
                    <a:pt x="693" y="2610"/>
                  </a:lnTo>
                  <a:lnTo>
                    <a:pt x="693" y="2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37600">
              <a:off x="1573560" y="887760"/>
              <a:ext cx="496440" cy="655560"/>
            </a:xfrm>
            <a:custGeom>
              <a:avLst/>
              <a:gdLst/>
              <a:ahLst/>
              <a:rect l="l" t="t" r="r" b="b"/>
              <a:pathLst>
                <a:path w="1488" h="1670">
                  <a:moveTo>
                    <a:pt x="678" y="20"/>
                  </a:moveTo>
                  <a:lnTo>
                    <a:pt x="669" y="49"/>
                  </a:lnTo>
                  <a:lnTo>
                    <a:pt x="614" y="117"/>
                  </a:lnTo>
                  <a:lnTo>
                    <a:pt x="597" y="146"/>
                  </a:lnTo>
                  <a:lnTo>
                    <a:pt x="580" y="250"/>
                  </a:lnTo>
                  <a:lnTo>
                    <a:pt x="536" y="342"/>
                  </a:lnTo>
                  <a:lnTo>
                    <a:pt x="456" y="412"/>
                  </a:lnTo>
                  <a:lnTo>
                    <a:pt x="353" y="486"/>
                  </a:lnTo>
                  <a:lnTo>
                    <a:pt x="338" y="598"/>
                  </a:lnTo>
                  <a:lnTo>
                    <a:pt x="331" y="724"/>
                  </a:lnTo>
                  <a:lnTo>
                    <a:pt x="344" y="813"/>
                  </a:lnTo>
                  <a:lnTo>
                    <a:pt x="367" y="847"/>
                  </a:lnTo>
                  <a:lnTo>
                    <a:pt x="372" y="786"/>
                  </a:lnTo>
                  <a:lnTo>
                    <a:pt x="395" y="745"/>
                  </a:lnTo>
                  <a:lnTo>
                    <a:pt x="435" y="731"/>
                  </a:lnTo>
                  <a:lnTo>
                    <a:pt x="500" y="745"/>
                  </a:lnTo>
                  <a:lnTo>
                    <a:pt x="530" y="766"/>
                  </a:lnTo>
                  <a:lnTo>
                    <a:pt x="543" y="807"/>
                  </a:lnTo>
                  <a:lnTo>
                    <a:pt x="536" y="870"/>
                  </a:lnTo>
                  <a:lnTo>
                    <a:pt x="536" y="813"/>
                  </a:lnTo>
                  <a:lnTo>
                    <a:pt x="515" y="771"/>
                  </a:lnTo>
                  <a:lnTo>
                    <a:pt x="479" y="745"/>
                  </a:lnTo>
                  <a:lnTo>
                    <a:pt x="429" y="752"/>
                  </a:lnTo>
                  <a:lnTo>
                    <a:pt x="395" y="771"/>
                  </a:lnTo>
                  <a:lnTo>
                    <a:pt x="380" y="819"/>
                  </a:lnTo>
                  <a:lnTo>
                    <a:pt x="372" y="893"/>
                  </a:lnTo>
                  <a:lnTo>
                    <a:pt x="380" y="959"/>
                  </a:lnTo>
                  <a:lnTo>
                    <a:pt x="409" y="1009"/>
                  </a:lnTo>
                  <a:lnTo>
                    <a:pt x="429" y="1015"/>
                  </a:lnTo>
                  <a:lnTo>
                    <a:pt x="456" y="1015"/>
                  </a:lnTo>
                  <a:lnTo>
                    <a:pt x="485" y="988"/>
                  </a:lnTo>
                  <a:lnTo>
                    <a:pt x="507" y="946"/>
                  </a:lnTo>
                  <a:lnTo>
                    <a:pt x="530" y="912"/>
                  </a:lnTo>
                  <a:lnTo>
                    <a:pt x="597" y="878"/>
                  </a:lnTo>
                  <a:lnTo>
                    <a:pt x="606" y="912"/>
                  </a:lnTo>
                  <a:lnTo>
                    <a:pt x="633" y="870"/>
                  </a:lnTo>
                  <a:lnTo>
                    <a:pt x="619" y="939"/>
                  </a:lnTo>
                  <a:lnTo>
                    <a:pt x="619" y="1009"/>
                  </a:lnTo>
                  <a:lnTo>
                    <a:pt x="627" y="1051"/>
                  </a:lnTo>
                  <a:lnTo>
                    <a:pt x="642" y="1085"/>
                  </a:lnTo>
                  <a:lnTo>
                    <a:pt x="678" y="1098"/>
                  </a:lnTo>
                  <a:lnTo>
                    <a:pt x="718" y="1079"/>
                  </a:lnTo>
                  <a:lnTo>
                    <a:pt x="747" y="1043"/>
                  </a:lnTo>
                  <a:lnTo>
                    <a:pt x="777" y="1003"/>
                  </a:lnTo>
                  <a:lnTo>
                    <a:pt x="762" y="1051"/>
                  </a:lnTo>
                  <a:lnTo>
                    <a:pt x="796" y="1037"/>
                  </a:lnTo>
                  <a:lnTo>
                    <a:pt x="827" y="988"/>
                  </a:lnTo>
                  <a:lnTo>
                    <a:pt x="827" y="1028"/>
                  </a:lnTo>
                  <a:lnTo>
                    <a:pt x="853" y="982"/>
                  </a:lnTo>
                  <a:lnTo>
                    <a:pt x="838" y="1051"/>
                  </a:lnTo>
                  <a:lnTo>
                    <a:pt x="838" y="1093"/>
                  </a:lnTo>
                  <a:lnTo>
                    <a:pt x="853" y="1108"/>
                  </a:lnTo>
                  <a:lnTo>
                    <a:pt x="874" y="1121"/>
                  </a:lnTo>
                  <a:lnTo>
                    <a:pt x="910" y="1113"/>
                  </a:lnTo>
                  <a:lnTo>
                    <a:pt x="946" y="1098"/>
                  </a:lnTo>
                  <a:lnTo>
                    <a:pt x="986" y="1051"/>
                  </a:lnTo>
                  <a:lnTo>
                    <a:pt x="965" y="1098"/>
                  </a:lnTo>
                  <a:lnTo>
                    <a:pt x="1009" y="1085"/>
                  </a:lnTo>
                  <a:lnTo>
                    <a:pt x="1066" y="1037"/>
                  </a:lnTo>
                  <a:lnTo>
                    <a:pt x="1142" y="959"/>
                  </a:lnTo>
                  <a:lnTo>
                    <a:pt x="1203" y="878"/>
                  </a:lnTo>
                  <a:lnTo>
                    <a:pt x="1262" y="794"/>
                  </a:lnTo>
                  <a:lnTo>
                    <a:pt x="1340" y="682"/>
                  </a:lnTo>
                  <a:lnTo>
                    <a:pt x="1402" y="585"/>
                  </a:lnTo>
                  <a:lnTo>
                    <a:pt x="1347" y="709"/>
                  </a:lnTo>
                  <a:lnTo>
                    <a:pt x="1347" y="800"/>
                  </a:lnTo>
                  <a:lnTo>
                    <a:pt x="1488" y="893"/>
                  </a:lnTo>
                  <a:lnTo>
                    <a:pt x="1374" y="893"/>
                  </a:lnTo>
                  <a:lnTo>
                    <a:pt x="1199" y="1003"/>
                  </a:lnTo>
                  <a:lnTo>
                    <a:pt x="1254" y="1182"/>
                  </a:lnTo>
                  <a:lnTo>
                    <a:pt x="1127" y="1182"/>
                  </a:lnTo>
                  <a:lnTo>
                    <a:pt x="1262" y="1286"/>
                  </a:lnTo>
                  <a:lnTo>
                    <a:pt x="986" y="1357"/>
                  </a:lnTo>
                  <a:lnTo>
                    <a:pt x="1113" y="1648"/>
                  </a:lnTo>
                  <a:lnTo>
                    <a:pt x="1030" y="1543"/>
                  </a:lnTo>
                  <a:lnTo>
                    <a:pt x="804" y="1456"/>
                  </a:lnTo>
                  <a:lnTo>
                    <a:pt x="804" y="1566"/>
                  </a:lnTo>
                  <a:lnTo>
                    <a:pt x="777" y="1497"/>
                  </a:lnTo>
                  <a:lnTo>
                    <a:pt x="633" y="1469"/>
                  </a:lnTo>
                  <a:lnTo>
                    <a:pt x="507" y="1670"/>
                  </a:lnTo>
                  <a:lnTo>
                    <a:pt x="557" y="1543"/>
                  </a:lnTo>
                  <a:lnTo>
                    <a:pt x="557" y="1469"/>
                  </a:lnTo>
                  <a:lnTo>
                    <a:pt x="485" y="1497"/>
                  </a:lnTo>
                  <a:lnTo>
                    <a:pt x="395" y="1613"/>
                  </a:lnTo>
                  <a:lnTo>
                    <a:pt x="456" y="1497"/>
                  </a:lnTo>
                  <a:lnTo>
                    <a:pt x="471" y="1433"/>
                  </a:lnTo>
                  <a:lnTo>
                    <a:pt x="479" y="1357"/>
                  </a:lnTo>
                  <a:lnTo>
                    <a:pt x="471" y="1281"/>
                  </a:lnTo>
                  <a:lnTo>
                    <a:pt x="448" y="1195"/>
                  </a:lnTo>
                  <a:lnTo>
                    <a:pt x="409" y="1132"/>
                  </a:lnTo>
                  <a:lnTo>
                    <a:pt x="367" y="1079"/>
                  </a:lnTo>
                  <a:lnTo>
                    <a:pt x="295" y="1020"/>
                  </a:lnTo>
                  <a:lnTo>
                    <a:pt x="203" y="975"/>
                  </a:lnTo>
                  <a:lnTo>
                    <a:pt x="120" y="1003"/>
                  </a:lnTo>
                  <a:lnTo>
                    <a:pt x="160" y="946"/>
                  </a:lnTo>
                  <a:lnTo>
                    <a:pt x="143" y="883"/>
                  </a:lnTo>
                  <a:lnTo>
                    <a:pt x="97" y="834"/>
                  </a:lnTo>
                  <a:lnTo>
                    <a:pt x="61" y="807"/>
                  </a:lnTo>
                  <a:lnTo>
                    <a:pt x="0" y="819"/>
                  </a:lnTo>
                  <a:lnTo>
                    <a:pt x="61" y="745"/>
                  </a:lnTo>
                  <a:lnTo>
                    <a:pt x="106" y="674"/>
                  </a:lnTo>
                  <a:lnTo>
                    <a:pt x="127" y="604"/>
                  </a:lnTo>
                  <a:lnTo>
                    <a:pt x="143" y="522"/>
                  </a:lnTo>
                  <a:lnTo>
                    <a:pt x="42" y="522"/>
                  </a:lnTo>
                  <a:lnTo>
                    <a:pt x="239" y="486"/>
                  </a:lnTo>
                  <a:lnTo>
                    <a:pt x="380" y="439"/>
                  </a:lnTo>
                  <a:lnTo>
                    <a:pt x="466" y="376"/>
                  </a:lnTo>
                  <a:lnTo>
                    <a:pt x="521" y="313"/>
                  </a:lnTo>
                  <a:lnTo>
                    <a:pt x="557" y="230"/>
                  </a:lnTo>
                  <a:lnTo>
                    <a:pt x="562" y="186"/>
                  </a:lnTo>
                  <a:lnTo>
                    <a:pt x="572" y="159"/>
                  </a:lnTo>
                  <a:lnTo>
                    <a:pt x="466" y="209"/>
                  </a:lnTo>
                  <a:lnTo>
                    <a:pt x="359" y="222"/>
                  </a:lnTo>
                  <a:lnTo>
                    <a:pt x="266" y="209"/>
                  </a:lnTo>
                  <a:lnTo>
                    <a:pt x="401" y="193"/>
                  </a:lnTo>
                  <a:lnTo>
                    <a:pt x="485" y="174"/>
                  </a:lnTo>
                  <a:lnTo>
                    <a:pt x="572" y="133"/>
                  </a:lnTo>
                  <a:lnTo>
                    <a:pt x="627" y="77"/>
                  </a:lnTo>
                  <a:lnTo>
                    <a:pt x="656" y="28"/>
                  </a:lnTo>
                  <a:lnTo>
                    <a:pt x="642" y="13"/>
                  </a:lnTo>
                  <a:lnTo>
                    <a:pt x="583" y="0"/>
                  </a:lnTo>
                  <a:lnTo>
                    <a:pt x="648" y="0"/>
                  </a:lnTo>
                  <a:lnTo>
                    <a:pt x="678" y="20"/>
                  </a:lnTo>
                  <a:lnTo>
                    <a:pt x="67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37600">
              <a:off x="1379520" y="817920"/>
              <a:ext cx="399960" cy="1009080"/>
            </a:xfrm>
            <a:custGeom>
              <a:avLst/>
              <a:gdLst/>
              <a:ahLst/>
              <a:rect l="l" t="t" r="r" b="b"/>
              <a:pathLst>
                <a:path w="1199" h="2574">
                  <a:moveTo>
                    <a:pt x="977" y="0"/>
                  </a:moveTo>
                  <a:lnTo>
                    <a:pt x="817" y="42"/>
                  </a:lnTo>
                  <a:lnTo>
                    <a:pt x="669" y="103"/>
                  </a:lnTo>
                  <a:lnTo>
                    <a:pt x="669" y="139"/>
                  </a:lnTo>
                  <a:lnTo>
                    <a:pt x="692" y="194"/>
                  </a:lnTo>
                  <a:lnTo>
                    <a:pt x="656" y="167"/>
                  </a:lnTo>
                  <a:lnTo>
                    <a:pt x="640" y="131"/>
                  </a:lnTo>
                  <a:lnTo>
                    <a:pt x="640" y="110"/>
                  </a:lnTo>
                  <a:lnTo>
                    <a:pt x="479" y="131"/>
                  </a:lnTo>
                  <a:lnTo>
                    <a:pt x="310" y="139"/>
                  </a:lnTo>
                  <a:lnTo>
                    <a:pt x="260" y="162"/>
                  </a:lnTo>
                  <a:lnTo>
                    <a:pt x="219" y="202"/>
                  </a:lnTo>
                  <a:lnTo>
                    <a:pt x="190" y="249"/>
                  </a:lnTo>
                  <a:lnTo>
                    <a:pt x="148" y="439"/>
                  </a:lnTo>
                  <a:lnTo>
                    <a:pt x="91" y="597"/>
                  </a:lnTo>
                  <a:lnTo>
                    <a:pt x="34" y="753"/>
                  </a:lnTo>
                  <a:lnTo>
                    <a:pt x="21" y="857"/>
                  </a:lnTo>
                  <a:lnTo>
                    <a:pt x="27" y="939"/>
                  </a:lnTo>
                  <a:lnTo>
                    <a:pt x="57" y="1030"/>
                  </a:lnTo>
                  <a:lnTo>
                    <a:pt x="112" y="1133"/>
                  </a:lnTo>
                  <a:lnTo>
                    <a:pt x="211" y="1258"/>
                  </a:lnTo>
                  <a:lnTo>
                    <a:pt x="287" y="1350"/>
                  </a:lnTo>
                  <a:lnTo>
                    <a:pt x="409" y="1468"/>
                  </a:lnTo>
                  <a:lnTo>
                    <a:pt x="513" y="1536"/>
                  </a:lnTo>
                  <a:lnTo>
                    <a:pt x="648" y="1595"/>
                  </a:lnTo>
                  <a:lnTo>
                    <a:pt x="619" y="1692"/>
                  </a:lnTo>
                  <a:lnTo>
                    <a:pt x="619" y="1781"/>
                  </a:lnTo>
                  <a:lnTo>
                    <a:pt x="768" y="1709"/>
                  </a:lnTo>
                  <a:lnTo>
                    <a:pt x="732" y="1844"/>
                  </a:lnTo>
                  <a:lnTo>
                    <a:pt x="804" y="1838"/>
                  </a:lnTo>
                  <a:lnTo>
                    <a:pt x="908" y="1753"/>
                  </a:lnTo>
                  <a:lnTo>
                    <a:pt x="859" y="1886"/>
                  </a:lnTo>
                  <a:lnTo>
                    <a:pt x="986" y="1914"/>
                  </a:lnTo>
                  <a:lnTo>
                    <a:pt x="1009" y="1975"/>
                  </a:lnTo>
                  <a:lnTo>
                    <a:pt x="1034" y="2017"/>
                  </a:lnTo>
                  <a:lnTo>
                    <a:pt x="1085" y="2047"/>
                  </a:lnTo>
                  <a:lnTo>
                    <a:pt x="1199" y="2074"/>
                  </a:lnTo>
                  <a:lnTo>
                    <a:pt x="903" y="2089"/>
                  </a:lnTo>
                  <a:lnTo>
                    <a:pt x="952" y="2262"/>
                  </a:lnTo>
                  <a:lnTo>
                    <a:pt x="952" y="2574"/>
                  </a:lnTo>
                  <a:lnTo>
                    <a:pt x="669" y="2574"/>
                  </a:lnTo>
                  <a:lnTo>
                    <a:pt x="437" y="2534"/>
                  </a:lnTo>
                  <a:lnTo>
                    <a:pt x="437" y="2294"/>
                  </a:lnTo>
                  <a:lnTo>
                    <a:pt x="431" y="2144"/>
                  </a:lnTo>
                  <a:lnTo>
                    <a:pt x="409" y="2004"/>
                  </a:lnTo>
                  <a:lnTo>
                    <a:pt x="365" y="1872"/>
                  </a:lnTo>
                  <a:lnTo>
                    <a:pt x="310" y="1734"/>
                  </a:lnTo>
                  <a:lnTo>
                    <a:pt x="226" y="1559"/>
                  </a:lnTo>
                  <a:lnTo>
                    <a:pt x="175" y="1462"/>
                  </a:lnTo>
                  <a:lnTo>
                    <a:pt x="105" y="1264"/>
                  </a:lnTo>
                  <a:lnTo>
                    <a:pt x="21" y="1008"/>
                  </a:lnTo>
                  <a:lnTo>
                    <a:pt x="0" y="899"/>
                  </a:lnTo>
                  <a:lnTo>
                    <a:pt x="0" y="812"/>
                  </a:lnTo>
                  <a:lnTo>
                    <a:pt x="21" y="702"/>
                  </a:lnTo>
                  <a:lnTo>
                    <a:pt x="97" y="502"/>
                  </a:lnTo>
                  <a:lnTo>
                    <a:pt x="139" y="369"/>
                  </a:lnTo>
                  <a:lnTo>
                    <a:pt x="175" y="236"/>
                  </a:lnTo>
                  <a:lnTo>
                    <a:pt x="219" y="173"/>
                  </a:lnTo>
                  <a:lnTo>
                    <a:pt x="274" y="131"/>
                  </a:lnTo>
                  <a:lnTo>
                    <a:pt x="338" y="118"/>
                  </a:lnTo>
                  <a:lnTo>
                    <a:pt x="513" y="110"/>
                  </a:lnTo>
                  <a:lnTo>
                    <a:pt x="676" y="74"/>
                  </a:lnTo>
                  <a:lnTo>
                    <a:pt x="846" y="21"/>
                  </a:lnTo>
                  <a:lnTo>
                    <a:pt x="977" y="0"/>
                  </a:lnTo>
                  <a:lnTo>
                    <a:pt x="9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137600">
              <a:off x="1783800" y="1205280"/>
              <a:ext cx="51120" cy="57240"/>
            </a:xfrm>
            <a:custGeom>
              <a:avLst/>
              <a:gdLst/>
              <a:ahLst/>
              <a:rect l="l" t="t" r="r" b="b"/>
              <a:pathLst>
                <a:path w="154" h="146">
                  <a:moveTo>
                    <a:pt x="137" y="146"/>
                  </a:moveTo>
                  <a:lnTo>
                    <a:pt x="146" y="101"/>
                  </a:lnTo>
                  <a:lnTo>
                    <a:pt x="146" y="72"/>
                  </a:lnTo>
                  <a:lnTo>
                    <a:pt x="131" y="42"/>
                  </a:lnTo>
                  <a:lnTo>
                    <a:pt x="108" y="28"/>
                  </a:lnTo>
                  <a:lnTo>
                    <a:pt x="64" y="17"/>
                  </a:lnTo>
                  <a:lnTo>
                    <a:pt x="34" y="19"/>
                  </a:lnTo>
                  <a:lnTo>
                    <a:pt x="0" y="30"/>
                  </a:lnTo>
                  <a:lnTo>
                    <a:pt x="24" y="2"/>
                  </a:lnTo>
                  <a:lnTo>
                    <a:pt x="68" y="0"/>
                  </a:lnTo>
                  <a:lnTo>
                    <a:pt x="112" y="8"/>
                  </a:lnTo>
                  <a:lnTo>
                    <a:pt x="144" y="36"/>
                  </a:lnTo>
                  <a:lnTo>
                    <a:pt x="154" y="68"/>
                  </a:lnTo>
                  <a:lnTo>
                    <a:pt x="150" y="104"/>
                  </a:lnTo>
                  <a:lnTo>
                    <a:pt x="137" y="146"/>
                  </a:lnTo>
                  <a:lnTo>
                    <a:pt x="13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137600">
              <a:off x="1843920" y="1259640"/>
              <a:ext cx="53280" cy="51480"/>
            </a:xfrm>
            <a:custGeom>
              <a:avLst/>
              <a:gdLst/>
              <a:ahLst/>
              <a:rect l="l" t="t" r="r" b="b"/>
              <a:pathLst>
                <a:path w="162" h="133">
                  <a:moveTo>
                    <a:pt x="131" y="133"/>
                  </a:moveTo>
                  <a:lnTo>
                    <a:pt x="152" y="104"/>
                  </a:lnTo>
                  <a:lnTo>
                    <a:pt x="162" y="57"/>
                  </a:lnTo>
                  <a:lnTo>
                    <a:pt x="145" y="15"/>
                  </a:lnTo>
                  <a:lnTo>
                    <a:pt x="103" y="0"/>
                  </a:lnTo>
                  <a:lnTo>
                    <a:pt x="63" y="0"/>
                  </a:lnTo>
                  <a:lnTo>
                    <a:pt x="29" y="19"/>
                  </a:lnTo>
                  <a:lnTo>
                    <a:pt x="0" y="57"/>
                  </a:lnTo>
                  <a:lnTo>
                    <a:pt x="40" y="19"/>
                  </a:lnTo>
                  <a:lnTo>
                    <a:pt x="76" y="11"/>
                  </a:lnTo>
                  <a:lnTo>
                    <a:pt x="109" y="19"/>
                  </a:lnTo>
                  <a:lnTo>
                    <a:pt x="135" y="42"/>
                  </a:lnTo>
                  <a:lnTo>
                    <a:pt x="147" y="66"/>
                  </a:lnTo>
                  <a:lnTo>
                    <a:pt x="145" y="99"/>
                  </a:lnTo>
                  <a:lnTo>
                    <a:pt x="135" y="116"/>
                  </a:lnTo>
                  <a:lnTo>
                    <a:pt x="131" y="133"/>
                  </a:lnTo>
                  <a:lnTo>
                    <a:pt x="131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137600">
              <a:off x="1904040" y="1209240"/>
              <a:ext cx="64440" cy="3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194" y="89"/>
                  </a:moveTo>
                  <a:lnTo>
                    <a:pt x="107" y="55"/>
                  </a:lnTo>
                  <a:lnTo>
                    <a:pt x="44" y="30"/>
                  </a:lnTo>
                  <a:lnTo>
                    <a:pt x="0" y="0"/>
                  </a:lnTo>
                  <a:lnTo>
                    <a:pt x="59" y="51"/>
                  </a:lnTo>
                  <a:lnTo>
                    <a:pt x="109" y="74"/>
                  </a:lnTo>
                  <a:lnTo>
                    <a:pt x="194" y="89"/>
                  </a:lnTo>
                  <a:lnTo>
                    <a:pt x="19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137600">
              <a:off x="1831680" y="1130760"/>
              <a:ext cx="56520" cy="2556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169" y="61"/>
                  </a:moveTo>
                  <a:lnTo>
                    <a:pt x="109" y="48"/>
                  </a:lnTo>
                  <a:lnTo>
                    <a:pt x="48" y="27"/>
                  </a:lnTo>
                  <a:lnTo>
                    <a:pt x="0" y="0"/>
                  </a:lnTo>
                  <a:lnTo>
                    <a:pt x="40" y="37"/>
                  </a:lnTo>
                  <a:lnTo>
                    <a:pt x="99" y="61"/>
                  </a:lnTo>
                  <a:lnTo>
                    <a:pt x="147" y="67"/>
                  </a:lnTo>
                  <a:lnTo>
                    <a:pt x="169" y="61"/>
                  </a:lnTo>
                  <a:lnTo>
                    <a:pt x="16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137600">
              <a:off x="1756440" y="1077480"/>
              <a:ext cx="47160" cy="14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2"/>
                  </a:moveTo>
                  <a:lnTo>
                    <a:pt x="80" y="24"/>
                  </a:lnTo>
                  <a:lnTo>
                    <a:pt x="25" y="9"/>
                  </a:lnTo>
                  <a:lnTo>
                    <a:pt x="0" y="0"/>
                  </a:lnTo>
                  <a:lnTo>
                    <a:pt x="37" y="30"/>
                  </a:lnTo>
                  <a:lnTo>
                    <a:pt x="92" y="38"/>
                  </a:lnTo>
                  <a:lnTo>
                    <a:pt x="141" y="32"/>
                  </a:lnTo>
                  <a:lnTo>
                    <a:pt x="14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137600">
              <a:off x="1738800" y="305280"/>
              <a:ext cx="149040" cy="598320"/>
            </a:xfrm>
            <a:custGeom>
              <a:avLst/>
              <a:gdLst/>
              <a:ahLst/>
              <a:rect l="l" t="t" r="r" b="b"/>
              <a:pathLst>
                <a:path w="447" h="1527">
                  <a:moveTo>
                    <a:pt x="447" y="1449"/>
                  </a:moveTo>
                  <a:lnTo>
                    <a:pt x="424" y="1186"/>
                  </a:lnTo>
                  <a:lnTo>
                    <a:pt x="401" y="829"/>
                  </a:lnTo>
                  <a:lnTo>
                    <a:pt x="393" y="485"/>
                  </a:lnTo>
                  <a:lnTo>
                    <a:pt x="386" y="272"/>
                  </a:lnTo>
                  <a:lnTo>
                    <a:pt x="361" y="124"/>
                  </a:lnTo>
                  <a:lnTo>
                    <a:pt x="308" y="29"/>
                  </a:lnTo>
                  <a:lnTo>
                    <a:pt x="251" y="0"/>
                  </a:lnTo>
                  <a:lnTo>
                    <a:pt x="183" y="0"/>
                  </a:lnTo>
                  <a:lnTo>
                    <a:pt x="129" y="25"/>
                  </a:lnTo>
                  <a:lnTo>
                    <a:pt x="93" y="73"/>
                  </a:lnTo>
                  <a:lnTo>
                    <a:pt x="74" y="151"/>
                  </a:lnTo>
                  <a:lnTo>
                    <a:pt x="59" y="356"/>
                  </a:lnTo>
                  <a:lnTo>
                    <a:pt x="50" y="635"/>
                  </a:lnTo>
                  <a:lnTo>
                    <a:pt x="36" y="922"/>
                  </a:lnTo>
                  <a:lnTo>
                    <a:pt x="25" y="1243"/>
                  </a:lnTo>
                  <a:lnTo>
                    <a:pt x="12" y="1462"/>
                  </a:lnTo>
                  <a:lnTo>
                    <a:pt x="0" y="1527"/>
                  </a:lnTo>
                  <a:lnTo>
                    <a:pt x="40" y="1523"/>
                  </a:lnTo>
                  <a:lnTo>
                    <a:pt x="63" y="1141"/>
                  </a:lnTo>
                  <a:lnTo>
                    <a:pt x="78" y="599"/>
                  </a:lnTo>
                  <a:lnTo>
                    <a:pt x="82" y="284"/>
                  </a:lnTo>
                  <a:lnTo>
                    <a:pt x="101" y="128"/>
                  </a:lnTo>
                  <a:lnTo>
                    <a:pt x="137" y="65"/>
                  </a:lnTo>
                  <a:lnTo>
                    <a:pt x="179" y="33"/>
                  </a:lnTo>
                  <a:lnTo>
                    <a:pt x="241" y="29"/>
                  </a:lnTo>
                  <a:lnTo>
                    <a:pt x="291" y="48"/>
                  </a:lnTo>
                  <a:lnTo>
                    <a:pt x="329" y="111"/>
                  </a:lnTo>
                  <a:lnTo>
                    <a:pt x="354" y="213"/>
                  </a:lnTo>
                  <a:lnTo>
                    <a:pt x="359" y="514"/>
                  </a:lnTo>
                  <a:lnTo>
                    <a:pt x="350" y="922"/>
                  </a:lnTo>
                  <a:lnTo>
                    <a:pt x="359" y="1243"/>
                  </a:lnTo>
                  <a:lnTo>
                    <a:pt x="365" y="1422"/>
                  </a:lnTo>
                  <a:lnTo>
                    <a:pt x="371" y="1470"/>
                  </a:lnTo>
                  <a:lnTo>
                    <a:pt x="447" y="1449"/>
                  </a:lnTo>
                  <a:lnTo>
                    <a:pt x="447" y="1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137600">
              <a:off x="1879920" y="299160"/>
              <a:ext cx="63360" cy="40680"/>
            </a:xfrm>
            <a:custGeom>
              <a:avLst/>
              <a:gdLst/>
              <a:ahLst/>
              <a:rect l="l" t="t" r="r" b="b"/>
              <a:pathLst>
                <a:path w="190" h="105">
                  <a:moveTo>
                    <a:pt x="190" y="105"/>
                  </a:moveTo>
                  <a:lnTo>
                    <a:pt x="149" y="27"/>
                  </a:lnTo>
                  <a:lnTo>
                    <a:pt x="103" y="0"/>
                  </a:lnTo>
                  <a:lnTo>
                    <a:pt x="57" y="4"/>
                  </a:lnTo>
                  <a:lnTo>
                    <a:pt x="27" y="23"/>
                  </a:lnTo>
                  <a:lnTo>
                    <a:pt x="0" y="86"/>
                  </a:lnTo>
                  <a:lnTo>
                    <a:pt x="23" y="82"/>
                  </a:lnTo>
                  <a:lnTo>
                    <a:pt x="42" y="27"/>
                  </a:lnTo>
                  <a:lnTo>
                    <a:pt x="92" y="12"/>
                  </a:lnTo>
                  <a:lnTo>
                    <a:pt x="135" y="31"/>
                  </a:lnTo>
                  <a:lnTo>
                    <a:pt x="162" y="82"/>
                  </a:lnTo>
                  <a:lnTo>
                    <a:pt x="190" y="105"/>
                  </a:lnTo>
                  <a:lnTo>
                    <a:pt x="19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97400" y="5661000"/>
            <a:ext cx="31640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Arial Unicode MS"/>
              </a:rPr>
              <a:t>Don’t forget to complete our online survey on the last slide!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9EE-6C1F-4D08-B30B-244CB4A5E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0" y="762120"/>
            <a:ext cx="8379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1200" y="1905120"/>
            <a:ext cx="837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elcome and Introdu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Goals and Objecti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esentation of Workshop and Activ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valu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F51-3AE6-4EFD-9A91-C8397A83A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ease click on the link below to take a short online survey. Type in your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assword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nfer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arent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survey: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insert link he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Educator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 surve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 insert link he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572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AB9-F9DC-4C01-8B70-43535E7024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3624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Thank you for coming!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1560" y="1599840"/>
            <a:ext cx="83772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Please Complete Evaluations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7240" y="4627440"/>
            <a:ext cx="535644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735 Whitney Ro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Clearwater, FL 3376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ffice: 727-523-1130 or 800-825-573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Fax: 727-523-868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25640" y="2811600"/>
            <a:ext cx="388620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819-D3B6-4D95-8F1C-2617455E8F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lease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mplete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520" y="2254320"/>
            <a:ext cx="57909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more information contact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2735 Whitney Roa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Clearwater, Florida   3376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Office: 727-523-1130 or 800-825-5736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Fax: 727-523-8687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www.fndfl.o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20A-63A2-432F-B6AB-6F003099EB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560" y="5331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orkshop Goal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1560" y="2963520"/>
            <a:ext cx="83772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o provide a framework for effective parent/teacher confere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5F4-B2DF-4329-9450-69927F45D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53316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orkshop Objectives</a:t>
            </a:r>
            <a:r>
              <a:rPr b="1" lang="es-PR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9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ist ways to prepare for a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dentify strategies that enhance positive communication during a confer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Identify ways to provide follow-up support to each other after a plan has been determin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113-2CC3-44CE-9975-3EBE22C6F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1560" y="2362320"/>
            <a:ext cx="8377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made a past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arent/teacher conference </a:t>
            </a:r>
            <a:br>
              <a:rPr sz="4400"/>
            </a:b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ffective for you?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E2E-0987-486B-9F60-554F492379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1560" y="5331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or to the conference…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1200" y="2209680"/>
            <a:ext cx="819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sure to decide if the child should attend the conference.  If the child does attend, prepare the child for the conference by discussing what will occu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79C-EB92-4EF2-AF0E-5A00ADCC2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840" y="609120"/>
            <a:ext cx="7873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parents can ask a child or teen prior to a parent/teacher conference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1200" y="2743200"/>
            <a:ext cx="816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Do you have anything you would like me to bring up with your teac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you enjoying most abou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enjoying least abou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is your favorite subjec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25320" indent="-6253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re you getting along with the people in your clas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A58-C9EA-4BEB-A17D-27C4FAF43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700200"/>
            <a:ext cx="79120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parents can ask a child or teen prior to a parent/teacher conference </a:t>
            </a:r>
            <a:br>
              <a:rPr sz="4400"/>
            </a:b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(continued)</a:t>
            </a:r>
            <a:endParaRPr b="1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560" y="2819520"/>
            <a:ext cx="83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o are your friends in the clas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o are the adults you feel closest to a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are some school activities you would like to spend more time 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ow do you handle school responsibiliti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ow do you like to be rewarded for a job well done at schoo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106-C602-4DA2-814D-7D7F4F895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1688400">
            <a:off x="7010280" y="685800"/>
            <a:ext cx="17575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 rot="19628400">
            <a:off x="355680" y="607680"/>
            <a:ext cx="162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ec8ba"/>
                  </a:solidFill>
                  <a:miter/>
                </a:ln>
                <a:solidFill>
                  <a:srgbClr val="fac1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???</a:t>
            </a:r>
            <a:endParaRPr b="1" i="1" lang="en-US" sz="2400" spc="1" strike="noStrike">
              <a:ln w="9360">
                <a:solidFill>
                  <a:srgbClr val="cec8ba"/>
                </a:solidFill>
                <a:miter/>
              </a:ln>
              <a:solidFill>
                <a:srgbClr val="fac1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560" y="609480"/>
            <a:ext cx="8377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Questions and topics for </a:t>
            </a:r>
            <a:r>
              <a:rPr b="1" i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teachers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to consider prior to a conference: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560" y="243828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is the purpose of this meeting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do I want the outcome of this meeting to b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the strengths I see in this chil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hat are this child’s areas of nee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ngs I feel the parent should know: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cademic progr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how the child gets along with peers and teache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scipline strategies I 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xtracurricular activities of interest to the chi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D3E-2523-44F3-9D77-5B56761B7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8:48:18Z</dcterms:created>
  <dc:creator>FND</dc:creator>
  <dc:description/>
  <dc:language>en-US</dc:language>
  <cp:lastModifiedBy>remoteUser18</cp:lastModifiedBy>
  <dcterms:modified xsi:type="dcterms:W3CDTF">2007-09-13T14:56:44Z</dcterms:modified>
  <cp:revision>43</cp:revision>
  <dc:subject/>
  <dc:title>Effective Conferences</dc:title>
</cp:coreProperties>
</file>